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20BF-7934-4CEE-9FB9-5D8ED7F2D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C547-32FD-480C-91A2-54397AA0D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7D78-D680-4DF7-A249-703214F91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8FB5-0DB2-430B-B63B-89E1B2D8D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3C6A-08F9-46A2-83A3-6F8245A47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FB29-6D9F-4676-B290-3D968FD10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776F-656A-4CA5-9748-81EE11EB5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751D-0AE5-443E-96C1-9A144181A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A764-14B7-4573-96C0-DB8E6B6E0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E903-992F-432D-9AFE-20A29091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3280-FA6C-44F4-85AB-31F41C6F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659F-58D4-44B8-A07C-6C88405C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D3DA7-82C5-43ED-9663-4936A194E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Gesund Leben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tja Gehris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od: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2971800" cy="2746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798360" y="2855880"/>
            <a:ext cx="44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ch esse Erdbeeren für meine Gesundhe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2283120" cy="2514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568680" y="3236760"/>
            <a:ext cx="356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h Gymnastik machen jeden ta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181480" y="4468680"/>
            <a:ext cx="3962520" cy="2389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146240" y="2590920"/>
            <a:ext cx="255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ch fahre Rad jedenta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3646440" cy="3278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648320" y="2209680"/>
            <a:ext cx="382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r raucht. Das ist nicht gesu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553080" y="4038480"/>
            <a:ext cx="2162160" cy="27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3732120"/>
            <a:ext cx="3549600" cy="3125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493440" y="2170080"/>
            <a:ext cx="37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in Freund isst Gemüse jedenta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876920" y="0"/>
            <a:ext cx="4267080" cy="3197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38080" y="3657600"/>
            <a:ext cx="541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ch kann zu laufen einmal in der Woch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486400" y="4038480"/>
            <a:ext cx="2808360" cy="19479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91560" y="1828800"/>
            <a:ext cx="71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ch esse keine Schokolade, weil es nicht gesund 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18:31:42Z</dcterms:created>
  <dc:creator>CUSD220</dc:creator>
  <dc:description/>
  <dc:language>en-US</dc:language>
  <cp:lastModifiedBy>CUSD220</cp:lastModifiedBy>
  <dcterms:modified xsi:type="dcterms:W3CDTF">2012-02-24T18:22:32Z</dcterms:modified>
  <cp:revision>5</cp:revision>
  <dc:subject/>
  <dc:title>Gesund leben Project</dc:title>
</cp:coreProperties>
</file>